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652-8511-4B70-A08C-49A8A280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5D9-52E0-49CE-947E-B7A9A752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BC3-0C98-4480-B0BF-C5CBC836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A4B-6790-437F-8115-31A08195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74C0-90E6-4167-A2AF-AB0923F0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9413-6C59-4D88-899B-3F4380F1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4146-6821-4B9D-A41D-8BB72223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54AE-70C7-4083-8382-60CE3FBF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60B5-FE01-4A30-BE73-625E39FA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5E2D-359A-4087-AEE2-A0163B39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9F18-F251-4EC3-92DF-991ACA9A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B94-A7C8-401B-8A94-59FD8124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0A81-9986-4E5E-95F3-820FB92C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DB89-99B1-4B35-8E94-6A17EC53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F520-CA8E-420B-B2D2-9E306E9D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F687-71F6-42CB-ABD0-E6D856CC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0DB4-877A-4BDC-ADEA-8D26DE41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7DD-4FA1-4D67-AFFB-4828200E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0BA-9FA0-4F2B-9A6C-6787B96E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DC6-F2CC-4450-AD9B-8003CF85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0C6-99BA-439D-85D2-8466E4FD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7F3-B8FF-4269-B14F-A67C67A4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A96-FE72-4D76-A7B3-EFF8D14C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09C-D740-419E-AE0D-4FCE64CE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3F71-F808-42BE-90E7-6AAEE8DA8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872A-6134-4CD6-B1DB-479832DF7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OA- Finish the analogi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 : exhausted :: ______ : f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on : dismiss :: ______ :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rrect ans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66"/>
                </a:solidFill>
                <a:latin typeface="Arial"/>
              </a:rPr>
              <a:t>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go in the first bl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66"/>
                </a:solidFill>
                <a:latin typeface="Arial"/>
              </a:rPr>
              <a:t>Go :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Vocabulary Practice-write the best definition for the underlined word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Jem’s arm healed, and his fear of never being able to play football w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ua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e was seldom self-conscious about his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dleys kept to themselves,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dile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givable in our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sister Alexandra was the Finch who remained at the Landing: she marrie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citu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who spent most of his time lying in a hammock by the riv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op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mb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ross the square, shuffled in and out of stores around it, took their time about every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the house live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levolent phan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reewri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anything. Write until the timer buzz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Quiz on Ch. 1. Answer in complete sentence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were the children fascinated with the Radley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first dare concerning the ho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 the Radley house have a reputation. Was it deser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Finches get to Montgom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Dill’s family situation with Scout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vidence was there that Scout was a bright gir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Quiz-Cont. Explain who each of the characters is and two of their trait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pu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elling the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being told as it happens or as a memory? What is that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3 things that stick out to you about chapter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34, In Maycomb, Alabama, things seemed to move quite slowly. Re-read the description of Maycomb on page 5, how do you think you’d feel living and growing up in that town at that time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hapter 2 for Wedn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9:22:18Z</dcterms:created>
  <dc:creator>rebecca</dc:creator>
  <dc:description/>
  <dc:language>en-US</dc:language>
  <cp:lastModifiedBy>vhs</cp:lastModifiedBy>
  <dcterms:modified xsi:type="dcterms:W3CDTF">2010-01-12T16:14:13Z</dcterms:modified>
  <cp:revision>2</cp:revision>
  <dc:subject/>
  <dc:title>DOA- Finish the analogies</dc:title>
</cp:coreProperties>
</file>